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39080" y="0"/>
            <a:ext cx="304920" cy="6834240"/>
          </a:xfrm>
          <a:prstGeom prst="rect">
            <a:avLst/>
          </a:prstGeom>
          <a:solidFill>
            <a:srgbClr val="065e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-23760" y="0"/>
            <a:ext cx="1689120" cy="6834240"/>
          </a:xfrm>
          <a:prstGeom prst="rect">
            <a:avLst/>
          </a:prstGeom>
          <a:solidFill>
            <a:srgbClr val="005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-34920" y="0"/>
            <a:ext cx="91789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508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77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Athe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609480" y="533520"/>
            <a:ext cx="8305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esson 12.4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ver Letters and Resu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638680" y="63244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5720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ing for SEM 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 flipV="1">
            <a:off x="4267080" y="2133720"/>
            <a:ext cx="0" cy="36576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4495680" y="268128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Cover Letter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lls the employer the type of position the individual is seeking and specifically how the applicant is qualified to fill the job op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228600" y="33508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Verdana"/>
              </a:rPr>
              <a:t>Also known as a letter of introduction or letter of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88" name="Text Box 10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0" y="0"/>
              <a:ext cx="518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 Black"/>
                </a:rPr>
                <a:t>Careers in S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2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5"/>
          <p:cNvSpPr/>
          <p:nvPr/>
        </p:nvSpPr>
        <p:spPr>
          <a:xfrm flipH="1">
            <a:off x="609480" y="2362320"/>
            <a:ext cx="79250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533520" y="266688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Draw the attention of the 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Encourage careful review of the re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Successfully highlight key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Explain why the candidate</a:t>
            </a:r>
            <a:r>
              <a:rPr b="0" lang="ja-JP" sz="2400" spc="-1" strike="noStrike">
                <a:solidFill>
                  <a:srgbClr val="0066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s skill set is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effective match for the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362320" y="1752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ffective Cover Letters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5720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ing for SEM 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96" name="Text Box 11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2"/>
            <p:cNvSpPr/>
            <p:nvPr/>
          </p:nvSpPr>
          <p:spPr>
            <a:xfrm>
              <a:off x="0" y="0"/>
              <a:ext cx="518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 Black"/>
                </a:rPr>
                <a:t>Careers in S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13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5"/>
          <p:cNvSpPr/>
          <p:nvPr/>
        </p:nvSpPr>
        <p:spPr>
          <a:xfrm flipH="1">
            <a:off x="609480" y="2286000"/>
            <a:ext cx="79250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57200" y="281952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Be addressed to prospective emplo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Specifically identify the position being off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Include a description of skill mat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(qualific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43200" y="1676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ver Letters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45720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ing for SEM 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04" name="Text Box 11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0" y="0"/>
              <a:ext cx="518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 Black"/>
                </a:rPr>
                <a:t>Careers in S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3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 flipH="1">
            <a:off x="609480" y="2362320"/>
            <a:ext cx="79250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80880" y="297180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Highlight specific, applicable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Reaffirm interest in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State willingness and desire to meet face to 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(intervi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ing for SEM 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11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0" y="0"/>
              <a:ext cx="518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 Black"/>
                </a:rPr>
                <a:t>Careers in S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743200" y="1752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ver Letters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ing for SEM 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V="1">
            <a:off x="4495680" y="2133720"/>
            <a:ext cx="0" cy="36576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029200" y="304560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Resum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background information about a prospective 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04920" y="2709720"/>
            <a:ext cx="396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Verdana"/>
              </a:rPr>
              <a:t>A quality resume will help the individual reach the interview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Verdana"/>
              </a:rPr>
              <a:t>Resumes that are not well prepared will likely be discar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9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20" name="Text Box 10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1"/>
            <p:cNvSpPr/>
            <p:nvPr/>
          </p:nvSpPr>
          <p:spPr>
            <a:xfrm>
              <a:off x="0" y="0"/>
              <a:ext cx="518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 Black"/>
                </a:rPr>
                <a:t>Careers in S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12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5"/>
          <p:cNvSpPr/>
          <p:nvPr/>
        </p:nvSpPr>
        <p:spPr>
          <a:xfrm flipH="1">
            <a:off x="609480" y="2590920"/>
            <a:ext cx="79250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981080" y="2895480"/>
            <a:ext cx="678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Experience and employment his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Personal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Referenc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905120" y="1905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n Effective Resume Will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457200" y="914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ing for SEM 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28" name="Text Box 11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2"/>
            <p:cNvSpPr/>
            <p:nvPr/>
          </p:nvSpPr>
          <p:spPr>
            <a:xfrm>
              <a:off x="0" y="0"/>
              <a:ext cx="518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 Black"/>
                </a:rPr>
                <a:t>Careers in S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13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32" name="Text Box 4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5"/>
            <p:cNvSpPr/>
            <p:nvPr/>
          </p:nvSpPr>
          <p:spPr>
            <a:xfrm>
              <a:off x="0" y="0"/>
              <a:ext cx="518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 Black"/>
                </a:rPr>
                <a:t>Careers in S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7"/>
          <p:cNvSpPr/>
          <p:nvPr/>
        </p:nvSpPr>
        <p:spPr>
          <a:xfrm>
            <a:off x="304920" y="2819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Blank Slide Available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for Teacher Ed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1295280"/>
            <a:ext cx="16700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M Car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0" y="380880"/>
            <a:ext cx="6553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SON 12.4 REVIEW (ANSW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>
            <a:hlinkClick r:id="rId1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676520" y="1295280"/>
            <a:ext cx="70102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) Explain why a cover letter and resume ar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e cover letter tells the employer the type of position the individual is seeking and specifically how the applicant is qualified to fill the job o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 quality resume will help the individual reach the interview process, resumes that are not well prepared will likely be discarded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02920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1:03:36Z</dcterms:created>
  <dc:creator>Copyright © 2012 by Sports Career Consulting, LLC</dc:creator>
  <dc:description/>
  <dc:language>en-US</dc:language>
  <cp:lastModifiedBy>Chris Lindauer</cp:lastModifiedBy>
  <dcterms:modified xsi:type="dcterms:W3CDTF">2020-08-26T16:18:38Z</dcterms:modified>
  <cp:revision>153</cp:revision>
  <dc:subject/>
  <dc:title>Lesson 12.4 - Slides-Cover Letters &amp; Resumes</dc:title>
</cp:coreProperties>
</file>